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34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4.wmf" ContentType="image/x-wmf"/>
  <Override PartName="/ppt/media/image10.png" ContentType="image/png"/>
  <Override PartName="/ppt/media/image50.wmf" ContentType="image/x-wmf"/>
  <Override PartName="/ppt/media/image28.png" ContentType="image/png"/>
  <Override PartName="/ppt/media/image3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4.png" ContentType="image/png"/>
  <Override PartName="/ppt/media/image59.wmf" ContentType="image/x-wmf"/>
  <Override PartName="/ppt/media/image22.wmf" ContentType="image/x-wmf"/>
  <Override PartName="/ppt/media/image23.png" ContentType="image/png"/>
  <Override PartName="/ppt/media/image60.wmf" ContentType="image/x-wmf"/>
  <Override PartName="/ppt/media/image18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4.wmf" ContentType="image/x-wmf"/>
  <Override PartName="/ppt/media/image16.wmf" ContentType="image/x-wmf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52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6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49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F16F-E700-4704-88ED-A29FE6F2A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EAD0-EA44-4CB0-AB27-0F9F95144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AE7C-886C-4943-AA1A-78EEC27AB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BE15-52AA-43A9-AE48-401179072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6871-EDEA-4CA3-9444-86263F78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88D8-DF01-47A0-B35A-667142A81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BE8C-3BAB-4279-9A1C-DD0DCCBFF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18C9-2DA2-4DD4-8A10-9690CE4D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769A69-38CE-4E0C-B019-D1644D2D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B526-2619-4CD1-940E-79634982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C4A5-4E9A-4885-BDD1-2D4102BE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86B5-12CF-4E88-91C2-3498B4FD1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AC36-8CE2-4ECC-8A3A-1E1CE6C6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6DD9-1F1A-48ED-B0BC-7AF0223C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E0E4-A584-4BD6-BFA1-7D4B900E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485B-62C3-4D21-A601-712AE0013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FF9E-809C-4560-AD8D-DB552125F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6343-49C5-4322-99E0-17A3E857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9775-5560-463C-AC5A-BD4C3283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EB35-B0FF-469A-9A66-BC00F093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FBD7-B386-4AF7-923F-5F3EA3077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73B9-2720-4926-B52F-652E93A30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DBF1-9163-43A6-A121-4B534459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A718-0C29-4452-864B-D4C120817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AE88-551E-45A7-8722-33F4CC576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9E97-31D9-44E7-A3E7-B2FD31B67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6C37-DBA5-461A-A9F5-22EE14679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338C-B962-4E6F-9C0F-79D875BF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A05-6982-41D4-8536-E5B28BF2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CBC-E9D8-4B00-A574-8779DB1D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FF0-7E6A-4450-9982-D341FB54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458-79D9-442D-8899-E02BADBA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F5D-A5C0-4930-9F69-61019669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87D-3964-4910-8AA6-6B93D47B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420-BEE3-46DD-BA53-AA02436E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B05-ADDC-48A4-B4D1-870BB37D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C49-5025-4E4B-9FC3-7D08D1C0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012-66A7-4B1E-A5AD-92A09D3B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253-4860-4A51-8EFB-06C8E092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739-980E-4A46-A3D7-9448FE13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6ECA-DC93-4272-85AE-0D9445DF1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elkady/Desktop/pinv(A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6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7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9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4572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4710-AF2B-4597-9358-63E37A755A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ingularity configuration of the 2-DOF planar robo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80880" y="3833640"/>
                <a:ext cx="5867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71680" y="2757600"/>
                <a:ext cx="21650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5" name="Group 6"/>
          <p:cNvGrpSpPr/>
          <p:nvPr/>
        </p:nvGrpSpPr>
        <p:grpSpPr>
          <a:xfrm>
            <a:off x="4419720" y="3123720"/>
            <a:ext cx="4190760" cy="3416760"/>
            <a:chOff x="4419720" y="3123720"/>
            <a:chExt cx="4190760" cy="3416760"/>
          </a:xfrm>
        </p:grpSpPr>
        <p:sp>
          <p:nvSpPr>
            <p:cNvPr id="146" name="AutoShape 7"/>
            <p:cNvSpPr/>
            <p:nvPr/>
          </p:nvSpPr>
          <p:spPr>
            <a:xfrm rot="19278600">
              <a:off x="4834080" y="5505120"/>
              <a:ext cx="213336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9230600">
              <a:off x="6553080" y="4266720"/>
              <a:ext cx="175284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419720" y="6324480"/>
              <a:ext cx="1371600" cy="152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7093800" y="502920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8077320" y="3886200"/>
              <a:ext cx="7596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 rot="17266800">
              <a:off x="502920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486400" y="5943600"/>
              <a:ext cx="30492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5798160" y="569268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7772400" y="33526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 flipH="1">
              <a:off x="5105520" y="502920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7"/>
            <p:cNvSpPr/>
            <p:nvPr/>
          </p:nvSpPr>
          <p:spPr>
            <a:xfrm flipV="1">
              <a:off x="6781680" y="3962160"/>
              <a:ext cx="1295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7010280" y="44197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9"/>
            <p:cNvSpPr/>
            <p:nvPr/>
          </p:nvSpPr>
          <p:spPr>
            <a:xfrm>
              <a:off x="6248520" y="5638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50292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 flipV="1">
              <a:off x="5105520" y="4952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7315200" y="6172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3"/>
            <p:cNvSpPr/>
            <p:nvPr/>
          </p:nvSpPr>
          <p:spPr>
            <a:xfrm>
              <a:off x="518148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 flipV="1">
              <a:off x="7467120" y="31237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6"/>
            <p:cNvSpPr/>
            <p:nvPr/>
          </p:nvSpPr>
          <p:spPr>
            <a:xfrm>
              <a:off x="72388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609480" y="2286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nt(J)=0            Not full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2590920" y="23623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685800" y="5410080"/>
            <a:ext cx="2057400" cy="990720"/>
            <a:chOff x="685800" y="5410080"/>
            <a:chExt cx="2057400" cy="990720"/>
          </a:xfrm>
        </p:grpSpPr>
        <mc:AlternateContent>
          <mc:Choice xmlns:a14="http://schemas.microsoft.com/office/drawing/2010/main" Requires="a14">
            <p:sp>
              <p:nvSpPr>
                <p:cNvPr id="169" name="Object 29"/>
                <p:cNvSpPr txBox="1"/>
                <p:nvPr/>
              </p:nvSpPr>
              <p:spPr>
                <a:xfrm>
                  <a:off x="761760" y="5873760"/>
                  <a:ext cx="9907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30"/>
            <p:cNvSpPr/>
            <p:nvPr/>
          </p:nvSpPr>
          <p:spPr>
            <a:xfrm>
              <a:off x="685800" y="5410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(J)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A be an mxn matrix, and let       be the pseudoinverse of A. If A is of full rank, then       can be compute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105520" y="1676520"/>
                <a:ext cx="374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572000" y="2057400"/>
                <a:ext cx="457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438280" y="2860560"/>
                <a:ext cx="35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A</m:t>
                              </m:r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nd X s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762120" y="1905120"/>
                <a:ext cx="2743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609480" y="3048120"/>
                <a:ext cx="640080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155600" y="5100480"/>
                <a:ext cx="231156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12"/>
          <p:cNvSpPr/>
          <p:nvPr/>
        </p:nvSpPr>
        <p:spPr>
          <a:xfrm>
            <a:off x="5335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Matlab Command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inv(A)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to calculate A</a:t>
            </a:r>
            <a:r>
              <a:rPr b="0" lang="en-US" sz="2400" spc="-1" strike="noStrike" baseline="30000">
                <a:solidFill>
                  <a:srgbClr val="99003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Jaco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(J)&lt;n : Jacobian Matrix is less than full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non-inve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undary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when the tool tip is on the surface of the work enve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ior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inside the work envelope when two or more of the axes of the robot form a straight line, i.e., col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5840" y="1523880"/>
                <a:ext cx="334332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495680" y="1523880"/>
                <a:ext cx="363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177920" y="3200400"/>
                <a:ext cx="1317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87" name="Object 7"/>
          <p:cNvGraphicFramePr/>
          <p:nvPr/>
        </p:nvGraphicFramePr>
        <p:xfrm>
          <a:off x="5715000" y="1219320"/>
          <a:ext cx="2382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19320"/>
                    <a:ext cx="2382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ngular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ipulator end effector cant move in certain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End-Effector velocities may correspond to unbounded joint velo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joint torques may correspond to unbounded End-Effector forces and tor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ros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7"/>
          <p:cNvGraphicFramePr/>
          <p:nvPr/>
        </p:nvGraphicFramePr>
        <p:xfrm>
          <a:off x="1371600" y="1542960"/>
          <a:ext cx="250020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42960"/>
                    <a:ext cx="25002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2"/>
          <p:cNvGraphicFramePr/>
          <p:nvPr/>
        </p:nvGraphicFramePr>
        <p:xfrm>
          <a:off x="682560" y="4424400"/>
          <a:ext cx="505296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4424400"/>
                    <a:ext cx="50529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DH par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formation matrix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1219320" y="1447920"/>
          <a:ext cx="41446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41446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219320" y="4495680"/>
                <a:ext cx="1962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19320" y="1676520"/>
                <a:ext cx="2782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6831000" cy="152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6172200" cy="148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78123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990720" y="1523880"/>
            <a:ext cx="72388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362320" y="2971800"/>
            <a:ext cx="3047400" cy="3276720"/>
            <a:chOff x="2362320" y="2971800"/>
            <a:chExt cx="3047400" cy="3276720"/>
          </a:xfrm>
        </p:grpSpPr>
        <p:sp>
          <p:nvSpPr>
            <p:cNvPr id="223" name="AutoShape 5"/>
            <p:cNvSpPr/>
            <p:nvPr/>
          </p:nvSpPr>
          <p:spPr>
            <a:xfrm rot="17178000">
              <a:off x="2285640" y="510552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 rot="19084800">
              <a:off x="3123720" y="3809880"/>
              <a:ext cx="182844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2362320" y="6096240"/>
              <a:ext cx="137124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3428640" y="4496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 flipV="1">
              <a:off x="3428640" y="3924000"/>
              <a:ext cx="72360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 flipV="1">
              <a:off x="3466800" y="38480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3543120" y="4140360"/>
              <a:ext cx="22824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362628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4724280" y="3353040"/>
              <a:ext cx="7560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 rot="17266800">
              <a:off x="2896920" y="6022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3238200" y="5753160"/>
              <a:ext cx="30456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32832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4571640" y="2971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3504960" y="4572000"/>
              <a:ext cx="533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2971440" y="6096240"/>
              <a:ext cx="60948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>
              <a:off x="3580920" y="4724640"/>
              <a:ext cx="456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4724280" y="3429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3504960" y="4572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3"/>
            <p:cNvSpPr/>
            <p:nvPr/>
          </p:nvSpPr>
          <p:spPr>
            <a:xfrm flipV="1">
              <a:off x="4114440" y="4038480"/>
              <a:ext cx="1218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4495680" y="419112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3733560" y="541044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7497-D38D-4216-999F-45CC03F67B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685800" y="4267080"/>
            <a:ext cx="582948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9"/>
          <p:cNvGraphicFramePr/>
          <p:nvPr/>
        </p:nvGraphicFramePr>
        <p:xfrm>
          <a:off x="3886200" y="457200"/>
          <a:ext cx="22604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20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Picture 60" descr=""/>
          <p:cNvPicPr/>
          <p:nvPr/>
        </p:nvPicPr>
        <p:blipFill>
          <a:blip r:embed="rId7"/>
          <a:stretch/>
        </p:blipFill>
        <p:spPr>
          <a:xfrm>
            <a:off x="685800" y="380880"/>
            <a:ext cx="3067200" cy="14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Object 7"/>
          <p:cNvGraphicFramePr/>
          <p:nvPr/>
        </p:nvGraphicFramePr>
        <p:xfrm>
          <a:off x="6781680" y="3581280"/>
          <a:ext cx="1284480" cy="105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3581280"/>
                    <a:ext cx="1284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2"/>
          <p:cNvGraphicFramePr/>
          <p:nvPr/>
        </p:nvGraphicFramePr>
        <p:xfrm>
          <a:off x="304920" y="5877000"/>
          <a:ext cx="4884480" cy="98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20" y="5877000"/>
                    <a:ext cx="4884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590400" y="1981080"/>
                <a:ext cx="81144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844720" y="1981080"/>
                <a:ext cx="812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 Box 6"/>
          <p:cNvSpPr/>
          <p:nvPr/>
        </p:nvSpPr>
        <p:spPr>
          <a:xfrm>
            <a:off x="380880" y="42051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66880" y="4052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600200" y="23623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600200" y="380988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002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9480" y="5638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the tool can be specified using a joint space or a cartesian spac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1530000" y="20574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FK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90720" y="152388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066680" y="3200400"/>
          <a:ext cx="51627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00400"/>
                    <a:ext cx="51627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Group 4"/>
          <p:cNvGrpSpPr/>
          <p:nvPr/>
        </p:nvGrpSpPr>
        <p:grpSpPr>
          <a:xfrm>
            <a:off x="5715000" y="2971800"/>
            <a:ext cx="3048120" cy="3276720"/>
            <a:chOff x="5715000" y="2971800"/>
            <a:chExt cx="3048120" cy="3276720"/>
          </a:xfrm>
        </p:grpSpPr>
        <p:sp>
          <p:nvSpPr>
            <p:cNvPr id="267" name="AutoShape 5"/>
            <p:cNvSpPr/>
            <p:nvPr/>
          </p:nvSpPr>
          <p:spPr>
            <a:xfrm rot="17178000">
              <a:off x="5638680" y="51051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 rot="19084800">
              <a:off x="6477120" y="38098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5715000" y="60962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"/>
            <p:cNvSpPr/>
            <p:nvPr/>
          </p:nvSpPr>
          <p:spPr>
            <a:xfrm>
              <a:off x="6781680" y="449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 flipV="1">
              <a:off x="6781680" y="39240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6819840" y="38480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6896160" y="41403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697932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"/>
            <p:cNvSpPr/>
            <p:nvPr/>
          </p:nvSpPr>
          <p:spPr>
            <a:xfrm>
              <a:off x="8077320" y="33530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4"/>
            <p:cNvSpPr/>
            <p:nvPr/>
          </p:nvSpPr>
          <p:spPr>
            <a:xfrm rot="17266800">
              <a:off x="6249960" y="6022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"/>
            <p:cNvSpPr/>
            <p:nvPr/>
          </p:nvSpPr>
          <p:spPr>
            <a:xfrm>
              <a:off x="6591240" y="57531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66366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7924680" y="29718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6858000" y="45720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6324480" y="60962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 flipH="1">
              <a:off x="6934320" y="47246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8077320" y="3429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6858000" y="4572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V="1">
              <a:off x="7467480" y="40384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4"/>
            <p:cNvSpPr/>
            <p:nvPr/>
          </p:nvSpPr>
          <p:spPr>
            <a:xfrm>
              <a:off x="7848720" y="4191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5"/>
            <p:cNvSpPr/>
            <p:nvPr/>
          </p:nvSpPr>
          <p:spPr>
            <a:xfrm>
              <a:off x="7086600" y="54104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60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2281320" y="1447920"/>
          <a:ext cx="2581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447920"/>
                    <a:ext cx="2581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9"/>
          <p:cNvGraphicFramePr/>
          <p:nvPr/>
        </p:nvGraphicFramePr>
        <p:xfrm>
          <a:off x="762120" y="2590920"/>
          <a:ext cx="6046560" cy="31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90920"/>
                    <a:ext cx="60465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7"/>
          <p:cNvGraphicFramePr/>
          <p:nvPr/>
        </p:nvGraphicFramePr>
        <p:xfrm>
          <a:off x="2293920" y="1447920"/>
          <a:ext cx="2554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1447920"/>
                    <a:ext cx="2554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9"/>
          <p:cNvGraphicFramePr/>
          <p:nvPr/>
        </p:nvGraphicFramePr>
        <p:xfrm>
          <a:off x="2182680" y="2743200"/>
          <a:ext cx="427068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2680" y="2743200"/>
                    <a:ext cx="42706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7"/>
          <p:cNvGraphicFramePr/>
          <p:nvPr/>
        </p:nvGraphicFramePr>
        <p:xfrm>
          <a:off x="4800600" y="1600200"/>
          <a:ext cx="20797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20797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0"/>
          <p:cNvGraphicFramePr/>
          <p:nvPr/>
        </p:nvGraphicFramePr>
        <p:xfrm>
          <a:off x="1631880" y="1447920"/>
          <a:ext cx="293076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447920"/>
                    <a:ext cx="2930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1"/>
          <p:cNvGraphicFramePr/>
          <p:nvPr/>
        </p:nvGraphicFramePr>
        <p:xfrm>
          <a:off x="1523880" y="4572000"/>
          <a:ext cx="179244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572000"/>
                    <a:ext cx="17924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2"/>
          <p:cNvSpPr/>
          <p:nvPr/>
        </p:nvSpPr>
        <p:spPr>
          <a:xfrm>
            <a:off x="609480" y="4038480"/>
            <a:ext cx="7239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648160" cy="2266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3657600"/>
            <a:ext cx="28004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9"/>
          <p:cNvGraphicFramePr/>
          <p:nvPr/>
        </p:nvGraphicFramePr>
        <p:xfrm>
          <a:off x="4876920" y="1676520"/>
          <a:ext cx="2260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8" descr=""/>
          <p:cNvPicPr/>
          <p:nvPr/>
        </p:nvPicPr>
        <p:blipFill>
          <a:blip r:embed="rId5"/>
          <a:stretch/>
        </p:blipFill>
        <p:spPr>
          <a:xfrm>
            <a:off x="0" y="472428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6"/>
          <a:stretch/>
        </p:blipFill>
        <p:spPr>
          <a:xfrm>
            <a:off x="2666880" y="3581280"/>
            <a:ext cx="2514600" cy="110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7"/>
          <a:stretch/>
        </p:blipFill>
        <p:spPr>
          <a:xfrm>
            <a:off x="2666880" y="4724280"/>
            <a:ext cx="2810160" cy="1038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"/>
          <p:cNvPicPr/>
          <p:nvPr/>
        </p:nvPicPr>
        <p:blipFill>
          <a:blip r:embed="rId8"/>
          <a:stretch/>
        </p:blipFill>
        <p:spPr>
          <a:xfrm>
            <a:off x="5410080" y="4876920"/>
            <a:ext cx="2772000" cy="1152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9"/>
          <a:stretch/>
        </p:blipFill>
        <p:spPr>
          <a:xfrm>
            <a:off x="5715000" y="3581280"/>
            <a:ext cx="2886120" cy="1238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3"/>
          <p:cNvSpPr/>
          <p:nvPr/>
        </p:nvSpPr>
        <p:spPr>
          <a:xfrm>
            <a:off x="548280" y="1143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H parameter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2800440" cy="119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251460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7" name="Object 7"/>
          <p:cNvGraphicFramePr/>
          <p:nvPr/>
        </p:nvGraphicFramePr>
        <p:xfrm>
          <a:off x="152280" y="2662200"/>
          <a:ext cx="9954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662200"/>
                    <a:ext cx="9954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4"/>
          <p:cNvGraphicFramePr/>
          <p:nvPr/>
        </p:nvGraphicFramePr>
        <p:xfrm>
          <a:off x="0" y="3276720"/>
          <a:ext cx="3746520" cy="15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76720"/>
                    <a:ext cx="374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6"/>
          <p:cNvGraphicFramePr/>
          <p:nvPr/>
        </p:nvGraphicFramePr>
        <p:xfrm>
          <a:off x="3962520" y="2666880"/>
          <a:ext cx="1155600" cy="158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2666880"/>
                    <a:ext cx="11556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5"/>
          <p:cNvGraphicFramePr/>
          <p:nvPr/>
        </p:nvGraphicFramePr>
        <p:xfrm>
          <a:off x="5029200" y="2743200"/>
          <a:ext cx="1370160" cy="15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2743200"/>
                    <a:ext cx="13701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8"/>
          <p:cNvGraphicFramePr/>
          <p:nvPr/>
        </p:nvGraphicFramePr>
        <p:xfrm>
          <a:off x="6324480" y="2743200"/>
          <a:ext cx="1449360" cy="15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24480" y="2743200"/>
                    <a:ext cx="14493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9"/>
          <p:cNvGraphicFramePr/>
          <p:nvPr/>
        </p:nvGraphicFramePr>
        <p:xfrm>
          <a:off x="-34920" y="5029200"/>
          <a:ext cx="4606920" cy="1523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8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34920" y="5029200"/>
                    <a:ext cx="4606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0"/>
          <p:cNvGraphicFramePr/>
          <p:nvPr/>
        </p:nvGraphicFramePr>
        <p:xfrm>
          <a:off x="7694640" y="2666880"/>
          <a:ext cx="1449360" cy="1586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0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94640" y="2666880"/>
                    <a:ext cx="144936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11"/>
          <p:cNvGraphicFramePr/>
          <p:nvPr/>
        </p:nvGraphicFramePr>
        <p:xfrm>
          <a:off x="7176960" y="4572000"/>
          <a:ext cx="1967040" cy="118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2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176960" y="4572000"/>
                    <a:ext cx="1967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2"/>
          <p:cNvGraphicFramePr/>
          <p:nvPr/>
        </p:nvGraphicFramePr>
        <p:xfrm>
          <a:off x="4565520" y="4648320"/>
          <a:ext cx="1393920" cy="118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65520" y="4648320"/>
                    <a:ext cx="1393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3"/>
          <p:cNvGraphicFramePr/>
          <p:nvPr/>
        </p:nvGraphicFramePr>
        <p:xfrm>
          <a:off x="5867280" y="4572000"/>
          <a:ext cx="1332000" cy="1185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6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67280" y="4572000"/>
                    <a:ext cx="1332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7"/>
          <p:cNvGraphicFramePr/>
          <p:nvPr/>
        </p:nvGraphicFramePr>
        <p:xfrm>
          <a:off x="487440" y="1676520"/>
          <a:ext cx="147456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1676520"/>
                    <a:ext cx="14745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8"/>
          <p:cNvGraphicFramePr/>
          <p:nvPr/>
        </p:nvGraphicFramePr>
        <p:xfrm>
          <a:off x="384120" y="2438280"/>
          <a:ext cx="167976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2438280"/>
                    <a:ext cx="1679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9"/>
          <p:cNvGraphicFramePr/>
          <p:nvPr/>
        </p:nvGraphicFramePr>
        <p:xfrm>
          <a:off x="284040" y="2971800"/>
          <a:ext cx="192564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40" y="2971800"/>
                    <a:ext cx="1925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0"/>
          <p:cNvGraphicFramePr/>
          <p:nvPr/>
        </p:nvGraphicFramePr>
        <p:xfrm>
          <a:off x="380880" y="3657600"/>
          <a:ext cx="2629080" cy="15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657600"/>
                    <a:ext cx="26290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10"/>
          <p:cNvSpPr/>
          <p:nvPr/>
        </p:nvSpPr>
        <p:spPr>
          <a:xfrm>
            <a:off x="2822400" y="1384200"/>
            <a:ext cx="60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1c2c4-s1s4,       -c1s2, -c1c2s4-s1*c4,  c1s2d3-sin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s1c2c4+c1s4,   -s1s2, -s1c2s4+c1c4, s1s2d3+c1*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-s2c4,  -c2,  s2s4, c2*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11"/>
          <p:cNvGraphicFramePr/>
          <p:nvPr/>
        </p:nvGraphicFramePr>
        <p:xfrm>
          <a:off x="3962520" y="3886200"/>
          <a:ext cx="198756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886200"/>
                    <a:ext cx="19875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1"/>
          <p:cNvGraphicFramePr/>
          <p:nvPr/>
        </p:nvGraphicFramePr>
        <p:xfrm>
          <a:off x="4343400" y="3962520"/>
          <a:ext cx="33526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4962600" y="3962520"/>
          <a:ext cx="196668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2600" y="3962520"/>
                    <a:ext cx="19666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1"/>
          <p:cNvGraphicFramePr/>
          <p:nvPr/>
        </p:nvGraphicFramePr>
        <p:xfrm>
          <a:off x="762120" y="4876920"/>
          <a:ext cx="5778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76920"/>
                    <a:ext cx="5778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6"/>
          <p:cNvSpPr/>
          <p:nvPr/>
        </p:nvSpPr>
        <p:spPr>
          <a:xfrm>
            <a:off x="0" y="166716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6 = [  c6c5c1c2c4-c6c5s1s4-c6c1s2s5+s6c1c2s4+s6s1c4, -c5c1c2c4+s6c5s1s4+s6c1s2s5+c6c1c2s4+c6s1c4, s5c1c2c4-s5s1s4+c1s2c5, d6s5c1c2c4-d6s5s1s4+d6c1s2c5+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6c5s1c2c4+c6c5c1s4-c6s1s2s5+s6s1c2s4-s6c1c4, -s6c5s1c2c4-s6c5c1s4+s6s1s2s5+c6s1c2s4-c6c1c4, s5s1c2c4+s5c1s4+s1s2c5, d6s5s1c2c4+d6s5c1s4+d6s1s2c5+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c6s2c4c5-c6c2s5-s2s4s6, s6s2c4c5+s6c2s5-s2s4c6, -s2c4s5+c2c5, -d6s2c4s5+d6c2c5+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 0, 0, 0, 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76720" y="5562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7913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447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joint velocity and cartesian velo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IAN matrix J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3886200" y="2744640"/>
            <a:ext cx="2895480" cy="2818080"/>
            <a:chOff x="3886200" y="2744640"/>
            <a:chExt cx="2895480" cy="2818080"/>
          </a:xfrm>
        </p:grpSpPr>
        <mc:AlternateContent>
          <mc:Choice xmlns:a14="http://schemas.microsoft.com/office/drawing/2010/main" Requires="a14">
            <p:sp>
              <p:nvSpPr>
                <p:cNvPr id="69" name="Object 4"/>
                <p:cNvSpPr txBox="1"/>
                <p:nvPr/>
              </p:nvSpPr>
              <p:spPr>
                <a:xfrm>
                  <a:off x="3886200" y="2744640"/>
                  <a:ext cx="639720" cy="281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4"/>
                <p:cNvSpPr txBox="1"/>
                <p:nvPr/>
              </p:nvSpPr>
              <p:spPr>
                <a:xfrm>
                  <a:off x="6095880" y="2744640"/>
                  <a:ext cx="685800" cy="275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AutoShape 8"/>
            <p:cNvSpPr/>
            <p:nvPr/>
          </p:nvSpPr>
          <p:spPr>
            <a:xfrm>
              <a:off x="4724280" y="3354120"/>
              <a:ext cx="990360" cy="304560"/>
            </a:xfrm>
            <a:prstGeom prst="righ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724280" y="4421160"/>
              <a:ext cx="990360" cy="304560"/>
            </a:xfrm>
            <a:prstGeom prst="lef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9"/>
                <p:cNvSpPr txBox="1"/>
                <p:nvPr/>
              </p:nvSpPr>
              <p:spPr>
                <a:xfrm>
                  <a:off x="4647960" y="2896920"/>
                  <a:ext cx="13716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0"/>
                <p:cNvSpPr txBox="1"/>
                <p:nvPr/>
              </p:nvSpPr>
              <p:spPr>
                <a:xfrm>
                  <a:off x="4495680" y="4802400"/>
                  <a:ext cx="15685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=</m:t>
                      </m:r>
                      <m:sSup>
                        <m:e>
                          <m:r>
                            <m:t xml:space="preserve">J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533520" y="1600200"/>
          <a:ext cx="51624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51624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8"/>
          <p:cNvSpPr/>
          <p:nvPr/>
        </p:nvSpPr>
        <p:spPr>
          <a:xfrm>
            <a:off x="6248520" y="1828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s 1,2 are rev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8"/>
          <p:cNvGraphicFramePr/>
          <p:nvPr/>
        </p:nvGraphicFramePr>
        <p:xfrm>
          <a:off x="2622600" y="2892600"/>
          <a:ext cx="1290600" cy="104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2600" y="2892600"/>
                    <a:ext cx="12906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10"/>
          <p:cNvSpPr/>
          <p:nvPr/>
        </p:nvSpPr>
        <p:spPr>
          <a:xfrm>
            <a:off x="5562720" y="32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3 is pris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304920" y="4191120"/>
          <a:ext cx="7878600" cy="10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191120"/>
                    <a:ext cx="78786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2"/>
          <p:cNvSpPr/>
          <p:nvPr/>
        </p:nvSpPr>
        <p:spPr>
          <a:xfrm>
            <a:off x="553680" y="54100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0"/>
          <p:cNvGraphicFramePr/>
          <p:nvPr/>
        </p:nvGraphicFramePr>
        <p:xfrm>
          <a:off x="2612880" y="6019920"/>
          <a:ext cx="2968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2880" y="6019920"/>
                    <a:ext cx="2968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j (m×n). If J is a square matrix (m=n), the joint velocit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&lt;n, let pseudoinvers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8"/>
          <p:cNvGraphicFramePr/>
          <p:nvPr/>
        </p:nvGraphicFramePr>
        <p:xfrm>
          <a:off x="893880" y="3519360"/>
          <a:ext cx="154296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3880" y="3519360"/>
                    <a:ext cx="154296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5575320" y="4316400"/>
          <a:ext cx="20448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5320" y="4316400"/>
                    <a:ext cx="2044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0"/>
          <p:cNvGraphicFramePr/>
          <p:nvPr/>
        </p:nvGraphicFramePr>
        <p:xfrm>
          <a:off x="1300320" y="5029200"/>
          <a:ext cx="14954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6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0320" y="5029200"/>
                    <a:ext cx="1495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ng this equation yields an expression for the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    of the end-effector acceleration, the joint acceleratio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914400" y="3429000"/>
          <a:ext cx="281952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819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1752480" y="434340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3434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2438280" y="4648320"/>
          <a:ext cx="53352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648320"/>
                    <a:ext cx="533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2973240" y="4952880"/>
          <a:ext cx="2818080" cy="7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3240" y="4952880"/>
                    <a:ext cx="28180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7"/>
          <p:cNvGraphicFramePr/>
          <p:nvPr/>
        </p:nvGraphicFramePr>
        <p:xfrm>
          <a:off x="2700360" y="5713560"/>
          <a:ext cx="3112920" cy="76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5713560"/>
                    <a:ext cx="31129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position and orientation vector of a manipulator is a function of 6 joint variables: (from forward kine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h(q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1981080" y="3429000"/>
            <a:ext cx="3741840" cy="2133720"/>
            <a:chOff x="1981080" y="3429000"/>
            <a:chExt cx="3741840" cy="2133720"/>
          </a:xfrm>
        </p:grpSpPr>
        <mc:AlternateContent>
          <mc:Choice xmlns:a14="http://schemas.microsoft.com/office/drawing/2010/main" Requires="a14">
            <p:sp>
              <p:nvSpPr>
                <p:cNvPr id="78" name="Object 3"/>
                <p:cNvSpPr txBox="1"/>
                <p:nvPr/>
              </p:nvSpPr>
              <p:spPr>
                <a:xfrm>
                  <a:off x="1981080" y="3505320"/>
                  <a:ext cx="739800" cy="20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y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φ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θ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4"/>
                <p:cNvSpPr txBox="1"/>
                <p:nvPr/>
              </p:nvSpPr>
              <p:spPr>
                <a:xfrm>
                  <a:off x="2689200" y="3429000"/>
                  <a:ext cx="113364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5"/>
                <p:cNvSpPr txBox="1"/>
                <p:nvPr/>
              </p:nvSpPr>
              <p:spPr>
                <a:xfrm>
                  <a:off x="3657600" y="3429000"/>
                  <a:ext cx="2065320" cy="20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8080" y="11430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295280" y="2057400"/>
                <a:ext cx="1862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3757680" y="3276720"/>
                <a:ext cx="51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838080" y="4343400"/>
                <a:ext cx="5302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1295280" y="4419720"/>
                <a:ext cx="24955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5354640" y="4952880"/>
                <a:ext cx="1949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AutoShape 13"/>
          <p:cNvSpPr/>
          <p:nvPr/>
        </p:nvSpPr>
        <p:spPr>
          <a:xfrm rot="18501600">
            <a:off x="3429360" y="2665800"/>
            <a:ext cx="503280" cy="873360"/>
          </a:xfrm>
          <a:prstGeom prst="downArrow">
            <a:avLst>
              <a:gd name="adj1" fmla="val 47056"/>
              <a:gd name="adj2" fmla="val 831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5943600" y="4343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4572000" y="52578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523880" y="4724280"/>
            <a:ext cx="1371600" cy="1371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7"/>
              <p:cNvSpPr txBox="1"/>
              <p:nvPr/>
            </p:nvSpPr>
            <p:spPr>
              <a:xfrm>
                <a:off x="4191120" y="5562720"/>
                <a:ext cx="14256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4191120" y="5562720"/>
            <a:ext cx="1371600" cy="914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2286000" y="6095880"/>
            <a:ext cx="190512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066680" y="1219320"/>
                <a:ext cx="70344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676520" y="1676520"/>
                <a:ext cx="246852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819520" y="3505320"/>
                <a:ext cx="5333760" cy="28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Line 6"/>
          <p:cNvSpPr/>
          <p:nvPr/>
        </p:nvSpPr>
        <p:spPr>
          <a:xfrm>
            <a:off x="2514600" y="3124080"/>
            <a:ext cx="129528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52880" y="220968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a function of q, it is not a cons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817560" y="1523880"/>
                <a:ext cx="170352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1085760" y="4863960"/>
                <a:ext cx="16732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4" name="Group 20"/>
          <p:cNvGrpSpPr/>
          <p:nvPr/>
        </p:nvGrpSpPr>
        <p:grpSpPr>
          <a:xfrm>
            <a:off x="2743200" y="1697040"/>
            <a:ext cx="1752480" cy="1960560"/>
            <a:chOff x="2743200" y="1697040"/>
            <a:chExt cx="1752480" cy="1960560"/>
          </a:xfrm>
        </p:grpSpPr>
        <mc:AlternateContent>
          <mc:Choice xmlns:a14="http://schemas.microsoft.com/office/drawing/2010/main" Requires="a14">
            <p:sp>
              <p:nvSpPr>
                <p:cNvPr id="105" name="Object 8"/>
                <p:cNvSpPr txBox="1"/>
                <p:nvPr/>
              </p:nvSpPr>
              <p:spPr>
                <a:xfrm>
                  <a:off x="2971800" y="2230200"/>
                  <a:ext cx="1041480" cy="142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Text Box 14"/>
            <p:cNvSpPr/>
            <p:nvPr/>
          </p:nvSpPr>
          <p:spPr>
            <a:xfrm>
              <a:off x="2743200" y="16970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e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1"/>
          <p:cNvGrpSpPr/>
          <p:nvPr/>
        </p:nvGrpSpPr>
        <p:grpSpPr>
          <a:xfrm>
            <a:off x="4575240" y="1752480"/>
            <a:ext cx="2054160" cy="1920600"/>
            <a:chOff x="4575240" y="1752480"/>
            <a:chExt cx="2054160" cy="1920600"/>
          </a:xfrm>
        </p:grpSpPr>
        <mc:AlternateContent>
          <mc:Choice xmlns:a14="http://schemas.microsoft.com/office/drawing/2010/main" Requires="a14">
            <p:sp>
              <p:nvSpPr>
                <p:cNvPr id="108" name="Object 9"/>
                <p:cNvSpPr txBox="1"/>
                <p:nvPr/>
              </p:nvSpPr>
              <p:spPr>
                <a:xfrm>
                  <a:off x="4575240" y="2209680"/>
                  <a:ext cx="1709640" cy="14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Text Box 15"/>
            <p:cNvSpPr/>
            <p:nvPr/>
          </p:nvSpPr>
          <p:spPr>
            <a:xfrm>
              <a:off x="4648320" y="1752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ul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838080" y="4267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cbi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6629400" y="1905120"/>
                <a:ext cx="15382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257800" y="1371600"/>
            <a:ext cx="3048120" cy="3276720"/>
            <a:chOff x="5257800" y="1371600"/>
            <a:chExt cx="3048120" cy="3276720"/>
          </a:xfrm>
        </p:grpSpPr>
        <p:sp>
          <p:nvSpPr>
            <p:cNvPr id="115" name="AutoShape 5"/>
            <p:cNvSpPr/>
            <p:nvPr/>
          </p:nvSpPr>
          <p:spPr>
            <a:xfrm rot="17178000">
              <a:off x="5181480" y="35049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 rot="19084800">
              <a:off x="6019920" y="22096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5257800" y="44960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632448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6324480" y="23238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V="1">
              <a:off x="6362640" y="22478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438960" y="25401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6522120" y="21020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>
              <a:off x="7620120" y="17528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4"/>
            <p:cNvSpPr/>
            <p:nvPr/>
          </p:nvSpPr>
          <p:spPr>
            <a:xfrm rot="17266800">
              <a:off x="5792760" y="44222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134040" y="41529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6179400" y="3864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7467480" y="13716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6400800" y="29718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5867280" y="44960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H="1">
              <a:off x="6477120" y="31244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7620120" y="1828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400800" y="2971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V="1">
              <a:off x="7010280" y="24382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391520" y="25909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6629400" y="38102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Object 26"/>
              <p:cNvSpPr txBox="1"/>
              <p:nvPr/>
            </p:nvSpPr>
            <p:spPr>
              <a:xfrm>
                <a:off x="609480" y="2514600"/>
                <a:ext cx="4635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7"/>
              <p:cNvSpPr txBox="1"/>
              <p:nvPr/>
            </p:nvSpPr>
            <p:spPr>
              <a:xfrm>
                <a:off x="533520" y="4572000"/>
                <a:ext cx="7696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8"/>
              <p:cNvSpPr txBox="1"/>
              <p:nvPr/>
            </p:nvSpPr>
            <p:spPr>
              <a:xfrm>
                <a:off x="609480" y="3657600"/>
                <a:ext cx="1706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erse of the jacobian matrix cannot be calculated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[J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)]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points are such values of θ that cause the determinant of the Jacobian to be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 Elkady</cp:lastModifiedBy>
  <dcterms:modified xsi:type="dcterms:W3CDTF">2008-03-06T04:10:3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